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gif" ContentType="image/gif"/>
  <Override PartName="/ppt/media/SPKGLISS.WAV" ContentType="audio/x-wav"/>
  <Override PartName="/ppt/media/image9.jpeg" ContentType="image/jpeg"/>
  <Override PartName="/ppt/media/image14.gif" ContentType="image/gif"/>
  <Override PartName="/ppt/media/image13.gif" ContentType="image/gif"/>
  <Override PartName="/ppt/media/image1.gif" ContentType="image/gif"/>
  <Override PartName="/ppt/media/image2.jpeg" ContentType="image/jpeg"/>
  <Override PartName="/ppt/media/image3.gif" ContentType="image/gif"/>
  <Override PartName="/ppt/media/image11.wmf" ContentType="image/x-wmf"/>
  <Override PartName="/ppt/media/image4.gif" ContentType="image/gif"/>
  <Override PartName="/ppt/media/image5.wmf" ContentType="image/x-wmf"/>
  <Override PartName="/ppt/media/image7.jpeg" ContentType="image/jpeg"/>
  <Override PartName="/ppt/media/image15.gif" ContentType="image/gif"/>
  <Override PartName="/ppt/media/image6.gif" ContentType="image/gif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9840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395568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172880" y="696960"/>
            <a:ext cx="4640040" cy="3479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-36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395568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s-P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518D4CB-2C1D-44FD-ABF4-2732AC571E37}" type="slidenum">
              <a:rPr b="0" lang="es-P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Biotecnología Marina y Administración de Empres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Yolanda Ramos So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Andrea Arias Garcí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Aprendiendo Biotecnología en Equipo y a través de Investigación y Centros Interdiciplinari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Recinto Universitario Mayague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73240" y="696960"/>
            <a:ext cx="4640040" cy="347976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Biotecnología Marina y Administración de Empres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Yolanda Ramos So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Andrea Arias Garcí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Aprendiendo Biotecnología en Equipo y a través de Investigación y Centros Interdiciplinar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Recinto Universitario Mayagu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Los estudiantes construyen su propio conocimien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73240" y="696960"/>
            <a:ext cx="4640040" cy="347976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Los estudiantes construyen su propio conocimi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Inicio</a:t>
            </a:r>
            <a:br>
              <a:rPr sz="1200"/>
            </a:b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Etapa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Descripción de rúbric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73240" y="696960"/>
            <a:ext cx="4640040" cy="347976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Inicio</a:t>
            </a:r>
            <a:br>
              <a:rPr sz="1200"/>
            </a:b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Etapa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Descripción de rúbric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Actividades de Desarrol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Etapa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Practican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73240" y="696960"/>
            <a:ext cx="4640040" cy="347976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Actividades de Desarroll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Etapa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Practicand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Experiencias con los estudian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Me encanta invent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Es el día mas feliz de mi vi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No creí que podía hacer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Todos nos vimos presntando todos pudimos wao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73240" y="696960"/>
            <a:ext cx="4640040" cy="347976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Experiencias con los estudian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Me encanta invent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Es el día mas feliz de mi vi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No creí que podía hacerl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Todos nos vimos presntando todos pudimos wao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P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73240" y="696960"/>
            <a:ext cx="4640040" cy="347976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PR" sz="1200" spc="-1" strike="noStrike">
                <a:solidFill>
                  <a:srgbClr val="000000"/>
                </a:solidFill>
                <a:latin typeface="Times New Roman"/>
              </a:rPr>
              <a:t>Actividades de Cier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73240" y="696960"/>
            <a:ext cx="4640040" cy="347976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1200" spc="-1" strike="noStrike">
                <a:solidFill>
                  <a:srgbClr val="000000"/>
                </a:solidFill>
                <a:latin typeface="Times New Roman"/>
              </a:rPr>
              <a:t>Actividades de Cier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PR" sz="1200" spc="-1" strike="noStrike">
                <a:solidFill>
                  <a:srgbClr val="000000"/>
                </a:solidFill>
                <a:latin typeface="Times New Roman"/>
              </a:rPr>
              <a:t>¡Gracia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73240" y="696960"/>
            <a:ext cx="4640040" cy="347976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1200" spc="-1" strike="noStrike">
                <a:solidFill>
                  <a:srgbClr val="000000"/>
                </a:solidFill>
                <a:latin typeface="Times New Roman"/>
              </a:rPr>
              <a:t>¡Gracia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PR" sz="1200" spc="-1" strike="noStrike">
                <a:solidFill>
                  <a:srgbClr val="000000"/>
                </a:solidFill>
                <a:latin typeface="Times New Roman"/>
              </a:rPr>
              <a:t>Referenci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PR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s-PR" sz="1200" spc="-1" strike="noStrike">
                <a:solidFill>
                  <a:srgbClr val="000000"/>
                </a:solidFill>
                <a:latin typeface="Times New Roman"/>
              </a:rPr>
              <a:t>. Zitzewitz Paul W., Ph.D. (2004). Física Principios y Problemas. McGraw-Hi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PR" sz="1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s-PR" sz="1200" spc="-1" strike="noStrike">
                <a:solidFill>
                  <a:srgbClr val="000000"/>
                </a:solidFill>
                <a:latin typeface="Times New Roman"/>
              </a:rPr>
              <a:t>Interamericana.México.Pág.531-53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PR" sz="1200" spc="-1" strike="noStrike">
                <a:solidFill>
                  <a:srgbClr val="000000"/>
                </a:solidFill>
                <a:latin typeface="Times New Roman"/>
              </a:rPr>
              <a:t>.Gómez de Orengo Nancy.(1997). Descubrimiento Ciencia Integrada 8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PR" sz="1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s-PR" sz="1200" spc="-1" strike="noStrike">
                <a:solidFill>
                  <a:srgbClr val="000000"/>
                </a:solidFill>
                <a:latin typeface="Times New Roman"/>
              </a:rPr>
              <a:t>Ediciones Santillana, Inc. Puerto Rico. Pág. 531-53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P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PR" sz="1200" spc="-1" strike="noStrike">
                <a:solidFill>
                  <a:srgbClr val="000000"/>
                </a:solidFill>
                <a:latin typeface="Times New Roman"/>
              </a:rPr>
              <a:t>Murphy, James, Zitzeruitz, Paul, Max, Hallon, James. (1898).Física: Un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PR" sz="1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s-PR" sz="1200" spc="-1" strike="noStrike">
                <a:solidFill>
                  <a:srgbClr val="000000"/>
                </a:solidFill>
                <a:latin typeface="Times New Roman"/>
              </a:rPr>
              <a:t>ciencia para todos. Ohio: Merill Publishing Co. Pág. 367-38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P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PR" sz="1200" spc="-1" strike="noStrike">
                <a:solidFill>
                  <a:srgbClr val="000000"/>
                </a:solidFill>
                <a:latin typeface="Times New Roman"/>
              </a:rPr>
              <a:t>Rathjen Don, Doherty, and the Exploration Teasher Institute. (2002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PR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s-PR" sz="1200" spc="-1" strike="noStrike">
                <a:solidFill>
                  <a:srgbClr val="000000"/>
                </a:solidFill>
                <a:latin typeface="Times New Roman"/>
              </a:rPr>
              <a:t>Squeare Wheels And Other Easy-build Hends-On Since Activit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PR" sz="1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s-PR" sz="1200" spc="-1" strike="noStrike">
                <a:solidFill>
                  <a:srgbClr val="000000"/>
                </a:solidFill>
                <a:latin typeface="Times New Roman"/>
              </a:rPr>
              <a:t>San Francisco, Co. explorations. Pág. 9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P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PR" sz="1200" spc="-1" strike="noStrike">
                <a:solidFill>
                  <a:srgbClr val="000000"/>
                </a:solidFill>
                <a:latin typeface="Times New Roman"/>
              </a:rPr>
              <a:t>Microsoft Corporation. (1993-2003). Enciclopedia Encart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PR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PR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73240" y="696960"/>
            <a:ext cx="4640040" cy="347976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1200" spc="-1" strike="noStrike">
                <a:solidFill>
                  <a:srgbClr val="000000"/>
                </a:solidFill>
                <a:latin typeface="Times New Roman"/>
              </a:rPr>
              <a:t>Referenci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s-PR" sz="1200" spc="-1" strike="noStrike">
                <a:solidFill>
                  <a:srgbClr val="000000"/>
                </a:solidFill>
                <a:latin typeface="Times New Roman"/>
              </a:rPr>
              <a:t>. Zitzewitz Paul W., Ph.D. (2004). Física Principios y Problemas. McGraw-Hi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1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s-PR" sz="1200" spc="-1" strike="noStrike">
                <a:solidFill>
                  <a:srgbClr val="000000"/>
                </a:solidFill>
                <a:latin typeface="Times New Roman"/>
              </a:rPr>
              <a:t>Interamericana.México.Pág.531-534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1200" spc="-1" strike="noStrike">
                <a:solidFill>
                  <a:srgbClr val="000000"/>
                </a:solidFill>
                <a:latin typeface="Times New Roman"/>
              </a:rPr>
              <a:t>.Gómez de Orengo Nancy.(1997). Descubrimiento Ciencia Integrada 8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1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s-PR" sz="1200" spc="-1" strike="noStrike">
                <a:solidFill>
                  <a:srgbClr val="000000"/>
                </a:solidFill>
                <a:latin typeface="Times New Roman"/>
              </a:rPr>
              <a:t>Ediciones Santillana, Inc. Puerto Rico. Pág. 531-534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PR" sz="1200" spc="-1" strike="noStrike">
                <a:solidFill>
                  <a:srgbClr val="000000"/>
                </a:solidFill>
                <a:latin typeface="Times New Roman"/>
              </a:rPr>
              <a:t>Murphy, James, Zitzeruitz, Paul, Max, Hallon, James. (1898).Física: Un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1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s-PR" sz="1200" spc="-1" strike="noStrike">
                <a:solidFill>
                  <a:srgbClr val="000000"/>
                </a:solidFill>
                <a:latin typeface="Times New Roman"/>
              </a:rPr>
              <a:t>ciencia para todos. Ohio: Merill Publishing Co. Pág. 367-38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PR" sz="1200" spc="-1" strike="noStrike">
                <a:solidFill>
                  <a:srgbClr val="000000"/>
                </a:solidFill>
                <a:latin typeface="Times New Roman"/>
              </a:rPr>
              <a:t>Rathjen Don, Doherty, and the Exploration Teasher Institute. (2002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s-PR" sz="1200" spc="-1" strike="noStrike">
                <a:solidFill>
                  <a:srgbClr val="000000"/>
                </a:solidFill>
                <a:latin typeface="Times New Roman"/>
              </a:rPr>
              <a:t>Squeare Wheels And Other Easy-build Hends-On Since Activit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1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s-PR" sz="1200" spc="-1" strike="noStrike">
                <a:solidFill>
                  <a:srgbClr val="000000"/>
                </a:solidFill>
                <a:latin typeface="Times New Roman"/>
              </a:rPr>
              <a:t>San Francisco, Co. explorations. Pág. 9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PR" sz="1200" spc="-1" strike="noStrike">
                <a:solidFill>
                  <a:srgbClr val="000000"/>
                </a:solidFill>
                <a:latin typeface="Times New Roman"/>
              </a:rPr>
              <a:t>Microsoft Corporation. (1993-2003). Enciclopedia Encarta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PR" sz="1200" spc="-1" strike="noStrike">
                <a:solidFill>
                  <a:srgbClr val="000000"/>
                </a:solidFill>
                <a:latin typeface="Times New Roman"/>
              </a:rPr>
              <a:t>Reflex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73240" y="696960"/>
            <a:ext cx="4640040" cy="347976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eflex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Estánd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La Ciencia y la Tecnologí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73240" y="696960"/>
            <a:ext cx="4640040" cy="347976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Estánd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La Ciencia y la Tecnologí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Te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Biotecnología Marina y Administración de Empres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73240" y="696960"/>
            <a:ext cx="4640040" cy="347976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Te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Biotecnología Marina y Administración de Empres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Título de la Activi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Producción de Peces Comerciales a partir de la identificación de sus larvas mediante Biotecnologí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73240" y="696960"/>
            <a:ext cx="4640040" cy="347976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Título de la Activid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Producción de Peces Comerciales a partir de la identificación de sus larvas mediante Biotecnologí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Objetivos de la lec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Al terminar la lección el estudiant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Identificarán especies de peces en etapa haciendo uso 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secuencias de una porción de adn mitocondrial de larvas y adul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ompararan las secuencias para determiar cual larva corresponde al pez adul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Definirán en forma operacional los conceptos dna mitocondrial, pcr, secuenci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Prepararán un vivero ideal para la producción en masa de pe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Prepararán un plan o modelo comercial de la venta y producción de peces a gran esca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Manejaran presupuesto y realizarán toma de deciciones al formar una nueva empres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Prepararán organizadores gráfico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Diseñaran anuncios comercia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73240" y="696960"/>
            <a:ext cx="4640040" cy="347976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Objetivos de la lec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Al terminar la lección el estudiant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Identificarán especies de peces en etapa haciendo uso 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secuencias de una porción de adn mitocondrial de larvas y adul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ompararan las secuencias para determiar cual larva corresponde al pez adul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Definirán en forma operacional los conceptos dna mitocondrial, pcr, secuenci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Prepararán un vivero ideal para la producción en masa de pec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Prepararán un plan o modelo comercial de la venta y producción de peces a gran esca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Manejaran presupuesto y realizarán toma de deciciones al formar una nueva empres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Prepararán organizadores gráfico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Diseñaran anuncios comercia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Procesos y Destrez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Los procesos y destrezas s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Observ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Formulación de definiciones operaciona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lasific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Medi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Uso de relaciones de espacio y tiemp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Formulación de model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Predicció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Interpretación de da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73240" y="696960"/>
            <a:ext cx="4640040" cy="347976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Procesos y Destrez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Los procesos y destrezas s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Observ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Formulación de definiciones operaciona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lasific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Medi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Uso de relaciones de espacio y tiem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Formulación de model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Predicció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Interpretación de da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Estrategi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Uso de diversas fuentes de inform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Formulacion de pregunt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Uso del método científi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Registro de da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Trabajo en grup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Discusión socializa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73240" y="696960"/>
            <a:ext cx="4640040" cy="347976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Estrategi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Uso de diversas fuentes de inform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Formulacion de pregunt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Uso del método científi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Registro de da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Trabajo en gru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Discusión socializa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Técnicas de enseñanz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Diseño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jueg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73240" y="696960"/>
            <a:ext cx="4640040" cy="347976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Técnicas de enseñanz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Diseño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jueg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3284E-76E5-4A82-AFEB-5C857D571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BE7CA-6AA1-45A2-A742-8615F32F1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4AFF4-39EC-4C24-823E-93B3264D1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84B33-4330-46AB-8CF4-394D72E0E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46AA6-6AC7-4D02-997F-A8C79EB79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28509-F3CC-4856-8778-6952F70F3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4C649-F716-45A6-BCBC-DCF6E55C5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80B9B-C312-4B6A-B29F-D10A0BEDC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FD5EA-3916-43A7-AB5D-895BD3C71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CFA18-0D34-49ED-BAA5-F9B05DB2E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857BE-781C-4BE9-9D2A-3993D9222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EE0DA-4F08-4544-8231-BB5B8E9EB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A555E-0A4B-42F4-A9A4-F58F67DD40BE}" type="slidenum">
              <a:rPr b="0" lang="es-P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AutoShape 7">
            <a:hlinkClick r:id="rId2" action="ppaction://hlinksldjump"/>
          </p:cNvPr>
          <p:cNvSpPr/>
          <p:nvPr/>
        </p:nvSpPr>
        <p:spPr>
          <a:xfrm>
            <a:off x="8381880" y="6477120"/>
            <a:ext cx="762120" cy="380880"/>
          </a:xfrm>
          <a:custGeom>
            <a:avLst/>
            <a:gdLst>
              <a:gd name="textAreaLeft" fmla="*/ 24480 w 762120"/>
              <a:gd name="textAreaRight" fmla="*/ 737640 w 7621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837"/>
                </a:moveTo>
                <a:lnTo>
                  <a:pt x="24176" y="6448"/>
                </a:ln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lnTo>
                  <a:pt x="28563" y="10800"/>
                </a:lnTo>
                <a:lnTo>
                  <a:pt x="26909" y="10800"/>
                </a:lnTo>
                <a:lnTo>
                  <a:pt x="26909" y="17989"/>
                </a:lnTo>
                <a:lnTo>
                  <a:pt x="16291" y="17989"/>
                </a:lnTo>
                <a:lnTo>
                  <a:pt x="16291" y="10800"/>
                </a:lnTo>
                <a:lnTo>
                  <a:pt x="14637" y="10800"/>
                </a:lnTo>
                <a:close/>
              </a:path>
              <a:path fill="darkenLess" w="43200" h="21600">
                <a:moveTo>
                  <a:pt x="24176" y="6448"/>
                </a:move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close/>
              </a:path>
              <a:path fill="darkenLess" w="43200" h="21600">
                <a:moveTo>
                  <a:pt x="20677" y="14299"/>
                </a:moveTo>
                <a:lnTo>
                  <a:pt x="22523" y="14299"/>
                </a:lnTo>
                <a:lnTo>
                  <a:pt x="22523" y="17989"/>
                </a:lnTo>
                <a:lnTo>
                  <a:pt x="26909" y="17989"/>
                </a:lnTo>
                <a:lnTo>
                  <a:pt x="26909" y="10800"/>
                </a:lnTo>
                <a:lnTo>
                  <a:pt x="16291" y="10800"/>
                </a:lnTo>
                <a:lnTo>
                  <a:pt x="16291" y="17989"/>
                </a:lnTo>
                <a:lnTo>
                  <a:pt x="20677" y="17989"/>
                </a:lnTo>
                <a:close/>
              </a:path>
            </a:pathLst>
          </a:custGeom>
          <a:solidFill>
            <a:srgbClr val="0099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AutoShape 8">
            <a:hlinkClick r:id="" action="ppaction://hlinkshowjump?jump=endshow"/>
          </p:cNvPr>
          <p:cNvSpPr/>
          <p:nvPr/>
        </p:nvSpPr>
        <p:spPr>
          <a:xfrm>
            <a:off x="7467480" y="6477120"/>
            <a:ext cx="914400" cy="380880"/>
          </a:xfrm>
          <a:custGeom>
            <a:avLst/>
            <a:gdLst>
              <a:gd name="textAreaLeft" fmla="*/ 24480 w 914400"/>
              <a:gd name="textAreaRight" fmla="*/ 889920 w 9144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51828" h="21600">
                <a:moveTo>
                  <a:pt x="0" y="0"/>
                </a:moveTo>
                <a:lnTo>
                  <a:pt x="51828" y="0"/>
                </a:lnTo>
                <a:lnTo>
                  <a:pt x="51828" y="21600"/>
                </a:lnTo>
                <a:lnTo>
                  <a:pt x="0" y="21600"/>
                </a:lnTo>
                <a:close/>
              </a:path>
              <a:path fill="lightenLess" w="51828" h="21600">
                <a:moveTo>
                  <a:pt x="0" y="0"/>
                </a:moveTo>
                <a:lnTo>
                  <a:pt x="51828" y="0"/>
                </a:lnTo>
                <a:lnTo>
                  <a:pt x="50428" y="1400"/>
                </a:lnTo>
                <a:lnTo>
                  <a:pt x="1400" y="1400"/>
                </a:lnTo>
                <a:close/>
              </a:path>
              <a:path fill="darken" w="51828" h="21600">
                <a:moveTo>
                  <a:pt x="51828" y="0"/>
                </a:moveTo>
                <a:lnTo>
                  <a:pt x="51828" y="21600"/>
                </a:lnTo>
                <a:lnTo>
                  <a:pt x="50428" y="20200"/>
                </a:lnTo>
                <a:lnTo>
                  <a:pt x="50428" y="1400"/>
                </a:lnTo>
                <a:close/>
              </a:path>
              <a:path fill="darkenLess" w="51828" h="21600">
                <a:moveTo>
                  <a:pt x="518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428" y="20200"/>
                </a:lnTo>
                <a:close/>
              </a:path>
              <a:path fill="lighten" w="518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BS" sz="2400" spc="-1" strike="noStrike">
                <a:solidFill>
                  <a:srgbClr val="000000"/>
                </a:solidFill>
                <a:latin typeface="Times New Roman"/>
              </a:rPr>
              <a:t>Sal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AutoShape 9">
            <a:hlinkClick r:id="" action="ppaction://hlinkshowjump?jump=previousslide"/>
          </p:cNvPr>
          <p:cNvSpPr/>
          <p:nvPr/>
        </p:nvSpPr>
        <p:spPr>
          <a:xfrm>
            <a:off x="5638680" y="6477120"/>
            <a:ext cx="609840" cy="380880"/>
          </a:xfrm>
          <a:custGeom>
            <a:avLst/>
            <a:gdLst>
              <a:gd name="textAreaLeft" fmla="*/ 24480 w 609840"/>
              <a:gd name="textAreaRight" fmla="*/ 585360 w 6098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4572" h="21600">
                <a:moveTo>
                  <a:pt x="0" y="0"/>
                </a:moveTo>
                <a:lnTo>
                  <a:pt x="34572" y="0"/>
                </a:lnTo>
                <a:lnTo>
                  <a:pt x="34572" y="21600"/>
                </a:lnTo>
                <a:lnTo>
                  <a:pt x="0" y="21600"/>
                </a:lnTo>
                <a:close/>
              </a:path>
              <a:path fill="lightenLess" w="34572" h="21600">
                <a:moveTo>
                  <a:pt x="0" y="0"/>
                </a:moveTo>
                <a:lnTo>
                  <a:pt x="34572" y="0"/>
                </a:lnTo>
                <a:lnTo>
                  <a:pt x="33172" y="1400"/>
                </a:lnTo>
                <a:lnTo>
                  <a:pt x="1400" y="1400"/>
                </a:lnTo>
                <a:close/>
              </a:path>
              <a:path fill="darken" w="34572" h="21600">
                <a:moveTo>
                  <a:pt x="34572" y="0"/>
                </a:moveTo>
                <a:lnTo>
                  <a:pt x="34572" y="21600"/>
                </a:lnTo>
                <a:lnTo>
                  <a:pt x="33172" y="20200"/>
                </a:lnTo>
                <a:lnTo>
                  <a:pt x="33172" y="1400"/>
                </a:lnTo>
                <a:close/>
              </a:path>
              <a:path fill="darkenLess" w="34572" h="21600">
                <a:moveTo>
                  <a:pt x="345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72" y="20200"/>
                </a:lnTo>
                <a:close/>
              </a:path>
              <a:path fill="lighten" w="345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72" h="21600">
                <a:moveTo>
                  <a:pt x="10280" y="10800"/>
                </a:moveTo>
                <a:lnTo>
                  <a:pt x="24293" y="3794"/>
                </a:lnTo>
                <a:lnTo>
                  <a:pt x="24293" y="17806"/>
                </a:lnTo>
                <a:close/>
              </a:path>
            </a:pathLst>
          </a:custGeom>
          <a:solidFill>
            <a:srgbClr val="0099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AutoShape 10">
            <a:hlinkClick r:id="" action="ppaction://hlinkshowjump?jump=previousslide"/>
          </p:cNvPr>
          <p:cNvSpPr/>
          <p:nvPr/>
        </p:nvSpPr>
        <p:spPr>
          <a:xfrm>
            <a:off x="6248520" y="6477120"/>
            <a:ext cx="609480" cy="380880"/>
          </a:xfrm>
          <a:custGeom>
            <a:avLst/>
            <a:gdLst>
              <a:gd name="textAreaLeft" fmla="*/ 24480 w 609480"/>
              <a:gd name="textAreaRight" fmla="*/ 585000 w 6094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4552" h="21600">
                <a:moveTo>
                  <a:pt x="0" y="0"/>
                </a:moveTo>
                <a:lnTo>
                  <a:pt x="34552" y="0"/>
                </a:lnTo>
                <a:lnTo>
                  <a:pt x="34552" y="21600"/>
                </a:lnTo>
                <a:lnTo>
                  <a:pt x="0" y="21600"/>
                </a:lnTo>
                <a:close/>
              </a:path>
              <a:path fill="lightenLess" w="34552" h="21600">
                <a:moveTo>
                  <a:pt x="0" y="0"/>
                </a:moveTo>
                <a:lnTo>
                  <a:pt x="34552" y="0"/>
                </a:lnTo>
                <a:lnTo>
                  <a:pt x="33152" y="1400"/>
                </a:lnTo>
                <a:lnTo>
                  <a:pt x="1400" y="1400"/>
                </a:lnTo>
                <a:close/>
              </a:path>
              <a:path fill="darken" w="34552" h="21600">
                <a:moveTo>
                  <a:pt x="34552" y="0"/>
                </a:moveTo>
                <a:lnTo>
                  <a:pt x="34552" y="21600"/>
                </a:lnTo>
                <a:lnTo>
                  <a:pt x="33152" y="20200"/>
                </a:lnTo>
                <a:lnTo>
                  <a:pt x="33152" y="1400"/>
                </a:lnTo>
                <a:close/>
              </a:path>
              <a:path fill="darkenLess" w="34552" h="21600">
                <a:moveTo>
                  <a:pt x="34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2" y="20200"/>
                </a:lnTo>
                <a:close/>
              </a:path>
              <a:path fill="lighten" w="34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2" h="21600">
                <a:moveTo>
                  <a:pt x="10269" y="7493"/>
                </a:moveTo>
                <a:lnTo>
                  <a:pt x="13777" y="7493"/>
                </a:lnTo>
                <a:lnTo>
                  <a:pt x="13777" y="12828"/>
                </a:lnTo>
                <a:cubicBezTo>
                  <a:pt x="13777" y="13751"/>
                  <a:pt x="14578" y="14482"/>
                  <a:pt x="15614" y="14482"/>
                </a:cubicBezTo>
                <a:lnTo>
                  <a:pt x="17276" y="14482"/>
                </a:lnTo>
                <a:cubicBezTo>
                  <a:pt x="18312" y="14482"/>
                  <a:pt x="19112" y="13751"/>
                  <a:pt x="19112" y="12828"/>
                </a:cubicBezTo>
                <a:lnTo>
                  <a:pt x="19112" y="7493"/>
                </a:lnTo>
                <a:lnTo>
                  <a:pt x="17276" y="7493"/>
                </a:lnTo>
                <a:lnTo>
                  <a:pt x="20784" y="3985"/>
                </a:lnTo>
                <a:lnTo>
                  <a:pt x="24456" y="7493"/>
                </a:lnTo>
                <a:lnTo>
                  <a:pt x="22620" y="7493"/>
                </a:lnTo>
                <a:lnTo>
                  <a:pt x="22620" y="12828"/>
                </a:lnTo>
                <a:cubicBezTo>
                  <a:pt x="22620" y="15596"/>
                  <a:pt x="20044" y="18155"/>
                  <a:pt x="17276" y="18155"/>
                </a:cubicBezTo>
                <a:lnTo>
                  <a:pt x="15614" y="18155"/>
                </a:lnTo>
                <a:cubicBezTo>
                  <a:pt x="12846" y="18155"/>
                  <a:pt x="10269" y="15596"/>
                  <a:pt x="10269" y="12828"/>
                </a:cubicBezTo>
                <a:close/>
              </a:path>
            </a:pathLst>
          </a:custGeom>
          <a:solidFill>
            <a:srgbClr val="0099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SPKGLIS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audio" Target="../media/SPKGLIS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gif"/><Relationship Id="rId3" Type="http://schemas.openxmlformats.org/officeDocument/2006/relationships/audio" Target="../media/SPKGLISS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audio" Target="../media/SPKGLISS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SPKGLIS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gif"/><Relationship Id="rId3" Type="http://schemas.openxmlformats.org/officeDocument/2006/relationships/image" Target="../media/image13.gif"/><Relationship Id="rId4" Type="http://schemas.openxmlformats.org/officeDocument/2006/relationships/audio" Target="../media/SPKGLISS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audio" Target="../media/SPKGLIS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audio" Target="../media/SPKGLIS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audio" Target="../media/SPKGLIS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SPKGLIS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SPKGLIS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SPKGLIS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audio" Target="../media/SPKGLIS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SPKGLIS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SPKGLIS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SPKGLIS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7"/>
          <p:cNvSpPr/>
          <p:nvPr/>
        </p:nvSpPr>
        <p:spPr>
          <a:xfrm>
            <a:off x="838080" y="3657600"/>
            <a:ext cx="777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7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Times New Roman"/>
              </a:rPr>
              <a:t>Biotecnología Marina y Administración de Empres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8"/>
          <p:cNvSpPr/>
          <p:nvPr/>
        </p:nvSpPr>
        <p:spPr>
          <a:xfrm>
            <a:off x="4038480" y="4648320"/>
            <a:ext cx="44942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Yolanda Ramos So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ndrea Arias Garc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9"/>
          <p:cNvSpPr/>
          <p:nvPr/>
        </p:nvSpPr>
        <p:spPr>
          <a:xfrm>
            <a:off x="1143000" y="304920"/>
            <a:ext cx="81532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prendiendo Biotecnología en Equipo y a través de Investigación y Centros Interdiciplinar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Recinto Universitario Mayague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20">
            <a:hlinkClick r:id="" action="ppaction://hlinkshowjump?jump=nextslide"/>
          </p:cNvPr>
          <p:cNvSpPr/>
          <p:nvPr/>
        </p:nvSpPr>
        <p:spPr>
          <a:xfrm>
            <a:off x="6858000" y="6477120"/>
            <a:ext cx="1523880" cy="380880"/>
          </a:xfrm>
          <a:custGeom>
            <a:avLst/>
            <a:gdLst>
              <a:gd name="textAreaLeft" fmla="*/ 24480 w 1523880"/>
              <a:gd name="textAreaRight" fmla="*/ 1499400 w 1523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86359" h="21600">
                <a:moveTo>
                  <a:pt x="0" y="0"/>
                </a:moveTo>
                <a:lnTo>
                  <a:pt x="86359" y="0"/>
                </a:lnTo>
                <a:lnTo>
                  <a:pt x="86359" y="21600"/>
                </a:lnTo>
                <a:lnTo>
                  <a:pt x="0" y="21600"/>
                </a:lnTo>
                <a:close/>
              </a:path>
              <a:path fill="lightenLess" w="86359" h="21600">
                <a:moveTo>
                  <a:pt x="0" y="0"/>
                </a:moveTo>
                <a:lnTo>
                  <a:pt x="86359" y="0"/>
                </a:lnTo>
                <a:lnTo>
                  <a:pt x="84959" y="1400"/>
                </a:lnTo>
                <a:lnTo>
                  <a:pt x="1400" y="1400"/>
                </a:lnTo>
                <a:close/>
              </a:path>
              <a:path fill="darken" w="86359" h="21600">
                <a:moveTo>
                  <a:pt x="86359" y="0"/>
                </a:moveTo>
                <a:lnTo>
                  <a:pt x="86359" y="21600"/>
                </a:lnTo>
                <a:lnTo>
                  <a:pt x="84959" y="20200"/>
                </a:lnTo>
                <a:lnTo>
                  <a:pt x="84959" y="1400"/>
                </a:lnTo>
                <a:close/>
              </a:path>
              <a:path fill="darkenLess" w="86359" h="21600">
                <a:moveTo>
                  <a:pt x="863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959" y="20200"/>
                </a:lnTo>
                <a:close/>
              </a:path>
              <a:path fill="lighten" w="863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6359" h="21600">
                <a:moveTo>
                  <a:pt x="36173" y="3794"/>
                </a:moveTo>
                <a:lnTo>
                  <a:pt x="50186" y="10800"/>
                </a:lnTo>
                <a:lnTo>
                  <a:pt x="36173" y="17806"/>
                </a:lnTo>
                <a:close/>
              </a:path>
            </a:pathLst>
          </a:cu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  <p:sndAc>
      <p:stSnd>
        <p:snd r:embed="rId1" name="SPKGLIS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s estudiantes construyen su propio conocimien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5">
            <a:hlinkClick r:id="" action="ppaction://hlinkshowjump?jump=nextslide"/>
          </p:cNvPr>
          <p:cNvSpPr/>
          <p:nvPr/>
        </p:nvSpPr>
        <p:spPr>
          <a:xfrm>
            <a:off x="6781680" y="647712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76" h="21600">
                <a:moveTo>
                  <a:pt x="12431" y="3794"/>
                </a:moveTo>
                <a:lnTo>
                  <a:pt x="26444" y="10800"/>
                </a:lnTo>
                <a:lnTo>
                  <a:pt x="12431" y="17806"/>
                </a:lnTo>
                <a:close/>
              </a:path>
            </a:pathLst>
          </a:custGeom>
          <a:solidFill>
            <a:srgbClr val="0099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8"/>
          <p:cNvSpPr/>
          <p:nvPr/>
        </p:nvSpPr>
        <p:spPr>
          <a:xfrm>
            <a:off x="3200400" y="6477120"/>
            <a:ext cx="1143000" cy="380880"/>
          </a:xfrm>
          <a:custGeom>
            <a:avLst/>
            <a:gdLst>
              <a:gd name="textAreaLeft" fmla="*/ 24480 w 1143000"/>
              <a:gd name="textAreaRight" fmla="*/ 1118520 w 1143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64780" h="21600">
                <a:moveTo>
                  <a:pt x="0" y="0"/>
                </a:moveTo>
                <a:lnTo>
                  <a:pt x="64780" y="0"/>
                </a:lnTo>
                <a:lnTo>
                  <a:pt x="64780" y="21600"/>
                </a:lnTo>
                <a:lnTo>
                  <a:pt x="0" y="21600"/>
                </a:lnTo>
                <a:close/>
              </a:path>
              <a:path fill="lightenLess" w="64780" h="21600">
                <a:moveTo>
                  <a:pt x="0" y="0"/>
                </a:moveTo>
                <a:lnTo>
                  <a:pt x="64780" y="0"/>
                </a:lnTo>
                <a:lnTo>
                  <a:pt x="63380" y="1400"/>
                </a:lnTo>
                <a:lnTo>
                  <a:pt x="1400" y="1400"/>
                </a:lnTo>
                <a:close/>
              </a:path>
              <a:path fill="darken" w="64780" h="21600">
                <a:moveTo>
                  <a:pt x="64780" y="0"/>
                </a:moveTo>
                <a:lnTo>
                  <a:pt x="64780" y="21600"/>
                </a:lnTo>
                <a:lnTo>
                  <a:pt x="63380" y="20200"/>
                </a:lnTo>
                <a:lnTo>
                  <a:pt x="63380" y="1400"/>
                </a:lnTo>
                <a:close/>
              </a:path>
              <a:path fill="darkenLess" w="64780" h="21600">
                <a:moveTo>
                  <a:pt x="647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80" y="20200"/>
                </a:lnTo>
                <a:close/>
              </a:path>
              <a:path fill="lighten" w="647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PR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icio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tapa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5541840" cy="36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pción de rúbr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9">
            <a:hlinkClick r:id="" action="ppaction://hlinkshowjump?jump=nextslide"/>
          </p:cNvPr>
          <p:cNvSpPr/>
          <p:nvPr/>
        </p:nvSpPr>
        <p:spPr>
          <a:xfrm>
            <a:off x="6858000" y="6477120"/>
            <a:ext cx="609480" cy="380880"/>
          </a:xfrm>
          <a:custGeom>
            <a:avLst/>
            <a:gdLst>
              <a:gd name="textAreaLeft" fmla="*/ 24480 w 609480"/>
              <a:gd name="textAreaRight" fmla="*/ 585000 w 6094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4552" h="21600">
                <a:moveTo>
                  <a:pt x="0" y="0"/>
                </a:moveTo>
                <a:lnTo>
                  <a:pt x="34552" y="0"/>
                </a:lnTo>
                <a:lnTo>
                  <a:pt x="34552" y="21600"/>
                </a:lnTo>
                <a:lnTo>
                  <a:pt x="0" y="21600"/>
                </a:lnTo>
                <a:close/>
              </a:path>
              <a:path fill="lightenLess" w="34552" h="21600">
                <a:moveTo>
                  <a:pt x="0" y="0"/>
                </a:moveTo>
                <a:lnTo>
                  <a:pt x="34552" y="0"/>
                </a:lnTo>
                <a:lnTo>
                  <a:pt x="33152" y="1400"/>
                </a:lnTo>
                <a:lnTo>
                  <a:pt x="1400" y="1400"/>
                </a:lnTo>
                <a:close/>
              </a:path>
              <a:path fill="darken" w="34552" h="21600">
                <a:moveTo>
                  <a:pt x="34552" y="0"/>
                </a:moveTo>
                <a:lnTo>
                  <a:pt x="34552" y="21600"/>
                </a:lnTo>
                <a:lnTo>
                  <a:pt x="33152" y="20200"/>
                </a:lnTo>
                <a:lnTo>
                  <a:pt x="33152" y="1400"/>
                </a:lnTo>
                <a:close/>
              </a:path>
              <a:path fill="darkenLess" w="34552" h="21600">
                <a:moveTo>
                  <a:pt x="34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2" y="20200"/>
                </a:lnTo>
                <a:close/>
              </a:path>
              <a:path fill="lighten" w="34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2" h="21600">
                <a:moveTo>
                  <a:pt x="10269" y="3794"/>
                </a:moveTo>
                <a:lnTo>
                  <a:pt x="24282" y="10800"/>
                </a:lnTo>
                <a:lnTo>
                  <a:pt x="10269" y="17806"/>
                </a:lnTo>
                <a:close/>
              </a:path>
            </a:pathLst>
          </a:custGeom>
          <a:solidFill>
            <a:srgbClr val="0099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037" descr="woman_teacher_blackboard_md_wht"/>
          <p:cNvPicPr/>
          <p:nvPr/>
        </p:nvPicPr>
        <p:blipFill>
          <a:blip r:embed="rId1"/>
          <a:stretch/>
        </p:blipFill>
        <p:spPr>
          <a:xfrm>
            <a:off x="5915160" y="3094200"/>
            <a:ext cx="2184120" cy="182376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  <p:sndAc>
      <p:stSnd>
        <p:snd r:embed="rId2" name="SPKGLIS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tividades de Desarroll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40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tapa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Practican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8" descr="j0288978"/>
          <p:cNvPicPr/>
          <p:nvPr/>
        </p:nvPicPr>
        <p:blipFill>
          <a:blip r:embed="rId1"/>
          <a:stretch/>
        </p:blipFill>
        <p:spPr>
          <a:xfrm>
            <a:off x="5345280" y="4334040"/>
            <a:ext cx="2643120" cy="1395360"/>
          </a:xfrm>
          <a:prstGeom prst="rect">
            <a:avLst/>
          </a:prstGeom>
          <a:ln w="0">
            <a:noFill/>
          </a:ln>
        </p:spPr>
      </p:pic>
      <p:sp>
        <p:nvSpPr>
          <p:cNvPr id="93" name="AutoShape 4">
            <a:hlinkClick r:id="" action="ppaction://hlinkshowjump?jump=nextslide"/>
          </p:cNvPr>
          <p:cNvSpPr/>
          <p:nvPr/>
        </p:nvSpPr>
        <p:spPr>
          <a:xfrm>
            <a:off x="6858000" y="6477120"/>
            <a:ext cx="609480" cy="380880"/>
          </a:xfrm>
          <a:custGeom>
            <a:avLst/>
            <a:gdLst>
              <a:gd name="textAreaLeft" fmla="*/ 24480 w 609480"/>
              <a:gd name="textAreaRight" fmla="*/ 585000 w 6094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4552" h="21600">
                <a:moveTo>
                  <a:pt x="0" y="0"/>
                </a:moveTo>
                <a:lnTo>
                  <a:pt x="34552" y="0"/>
                </a:lnTo>
                <a:lnTo>
                  <a:pt x="34552" y="21600"/>
                </a:lnTo>
                <a:lnTo>
                  <a:pt x="0" y="21600"/>
                </a:lnTo>
                <a:close/>
              </a:path>
              <a:path fill="lightenLess" w="34552" h="21600">
                <a:moveTo>
                  <a:pt x="0" y="0"/>
                </a:moveTo>
                <a:lnTo>
                  <a:pt x="34552" y="0"/>
                </a:lnTo>
                <a:lnTo>
                  <a:pt x="33152" y="1400"/>
                </a:lnTo>
                <a:lnTo>
                  <a:pt x="1400" y="1400"/>
                </a:lnTo>
                <a:close/>
              </a:path>
              <a:path fill="darken" w="34552" h="21600">
                <a:moveTo>
                  <a:pt x="34552" y="0"/>
                </a:moveTo>
                <a:lnTo>
                  <a:pt x="34552" y="21600"/>
                </a:lnTo>
                <a:lnTo>
                  <a:pt x="33152" y="20200"/>
                </a:lnTo>
                <a:lnTo>
                  <a:pt x="33152" y="1400"/>
                </a:lnTo>
                <a:close/>
              </a:path>
              <a:path fill="darkenLess" w="34552" h="21600">
                <a:moveTo>
                  <a:pt x="34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2" y="20200"/>
                </a:lnTo>
                <a:close/>
              </a:path>
              <a:path fill="lighten" w="34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2" h="21600">
                <a:moveTo>
                  <a:pt x="10269" y="3794"/>
                </a:moveTo>
                <a:lnTo>
                  <a:pt x="24282" y="10800"/>
                </a:lnTo>
                <a:lnTo>
                  <a:pt x="10269" y="17806"/>
                </a:lnTo>
                <a:close/>
              </a:path>
            </a:pathLst>
          </a:custGeom>
          <a:solidFill>
            <a:srgbClr val="0099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6"/>
          <p:cNvSpPr/>
          <p:nvPr/>
        </p:nvSpPr>
        <p:spPr>
          <a:xfrm>
            <a:off x="7756560" y="18684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11" descr="charlie_reading_to_grandson_md_wht"/>
          <p:cNvPicPr/>
          <p:nvPr/>
        </p:nvPicPr>
        <p:blipFill>
          <a:blip r:embed="rId2"/>
          <a:stretch/>
        </p:blipFill>
        <p:spPr>
          <a:xfrm>
            <a:off x="6419880" y="2505240"/>
            <a:ext cx="2014560" cy="163008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  <p:sndAc>
      <p:stSnd>
        <p:snd r:embed="rId3" name="SPKGLIS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eriencias con los estudian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4">
            <a:hlinkClick r:id="" action="ppaction://hlinkshowjump?jump=nextslide"/>
          </p:cNvPr>
          <p:cNvSpPr/>
          <p:nvPr/>
        </p:nvSpPr>
        <p:spPr>
          <a:xfrm>
            <a:off x="6858000" y="647712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76" h="21600">
                <a:moveTo>
                  <a:pt x="12431" y="3794"/>
                </a:moveTo>
                <a:lnTo>
                  <a:pt x="26444" y="10800"/>
                </a:lnTo>
                <a:lnTo>
                  <a:pt x="12431" y="17806"/>
                </a:lnTo>
                <a:close/>
              </a:path>
            </a:pathLst>
          </a:custGeom>
          <a:solidFill>
            <a:srgbClr val="0099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6" descr="ca22430"/>
          <p:cNvPicPr/>
          <p:nvPr/>
        </p:nvPicPr>
        <p:blipFill>
          <a:blip r:embed="rId1"/>
          <a:stretch/>
        </p:blipFill>
        <p:spPr>
          <a:xfrm>
            <a:off x="457200" y="1752480"/>
            <a:ext cx="2971800" cy="19749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8" descr="garfield gang"/>
          <p:cNvPicPr/>
          <p:nvPr/>
        </p:nvPicPr>
        <p:blipFill>
          <a:blip r:embed="rId2"/>
          <a:stretch/>
        </p:blipFill>
        <p:spPr>
          <a:xfrm>
            <a:off x="3505320" y="2209680"/>
            <a:ext cx="2666880" cy="20005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2" descr="200111716-002"/>
          <p:cNvPicPr/>
          <p:nvPr/>
        </p:nvPicPr>
        <p:blipFill>
          <a:blip r:embed="rId3"/>
          <a:stretch/>
        </p:blipFill>
        <p:spPr>
          <a:xfrm>
            <a:off x="6400800" y="3505320"/>
            <a:ext cx="2120760" cy="215892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13"/>
          <p:cNvSpPr/>
          <p:nvPr/>
        </p:nvSpPr>
        <p:spPr>
          <a:xfrm>
            <a:off x="533520" y="3962520"/>
            <a:ext cx="4876560" cy="249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Me encanta invent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Es el día mas feliz de mi vi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No creí que podía hacer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odos nos vimos presntando todos pudimos wao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  <p:sndAc>
      <p:stSnd>
        <p:snd r:embed="rId4" name="SPKGLIS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7">
            <a:hlinkClick r:id="" action="ppaction://hlinkshowjump?jump=nextslide"/>
          </p:cNvPr>
          <p:cNvSpPr/>
          <p:nvPr/>
        </p:nvSpPr>
        <p:spPr>
          <a:xfrm>
            <a:off x="6781680" y="647712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76" h="21600">
                <a:moveTo>
                  <a:pt x="12431" y="3794"/>
                </a:moveTo>
                <a:lnTo>
                  <a:pt x="26444" y="10800"/>
                </a:lnTo>
                <a:lnTo>
                  <a:pt x="12431" y="17806"/>
                </a:lnTo>
                <a:close/>
              </a:path>
            </a:pathLst>
          </a:custGeom>
          <a:solidFill>
            <a:srgbClr val="0099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12" descr="200135310-004"/>
          <p:cNvPicPr/>
          <p:nvPr/>
        </p:nvPicPr>
        <p:blipFill>
          <a:blip r:embed="rId1"/>
          <a:stretch/>
        </p:blipFill>
        <p:spPr>
          <a:xfrm>
            <a:off x="2514600" y="1447920"/>
            <a:ext cx="2558880" cy="259056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  <p:sndAc>
      <p:stSnd>
        <p:snd r:embed="rId2" name="SPKGLIS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tividades de Cier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40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8" descr="j0278804"/>
          <p:cNvPicPr/>
          <p:nvPr/>
        </p:nvPicPr>
        <p:blipFill>
          <a:blip r:embed="rId1"/>
          <a:stretch/>
        </p:blipFill>
        <p:spPr>
          <a:xfrm>
            <a:off x="6670800" y="3863880"/>
            <a:ext cx="1211040" cy="1614600"/>
          </a:xfrm>
          <a:prstGeom prst="rect">
            <a:avLst/>
          </a:prstGeom>
          <a:ln w="0">
            <a:noFill/>
          </a:ln>
        </p:spPr>
      </p:pic>
      <p:sp>
        <p:nvSpPr>
          <p:cNvPr id="108" name="AutoShape 4">
            <a:hlinkClick r:id="" action="ppaction://hlinkshowjump?jump=nextslide"/>
          </p:cNvPr>
          <p:cNvSpPr/>
          <p:nvPr/>
        </p:nvSpPr>
        <p:spPr>
          <a:xfrm>
            <a:off x="6858000" y="6477120"/>
            <a:ext cx="609480" cy="380880"/>
          </a:xfrm>
          <a:custGeom>
            <a:avLst/>
            <a:gdLst>
              <a:gd name="textAreaLeft" fmla="*/ 24480 w 609480"/>
              <a:gd name="textAreaRight" fmla="*/ 585000 w 6094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4552" h="21600">
                <a:moveTo>
                  <a:pt x="0" y="0"/>
                </a:moveTo>
                <a:lnTo>
                  <a:pt x="34552" y="0"/>
                </a:lnTo>
                <a:lnTo>
                  <a:pt x="34552" y="21600"/>
                </a:lnTo>
                <a:lnTo>
                  <a:pt x="0" y="21600"/>
                </a:lnTo>
                <a:close/>
              </a:path>
              <a:path fill="lightenLess" w="34552" h="21600">
                <a:moveTo>
                  <a:pt x="0" y="0"/>
                </a:moveTo>
                <a:lnTo>
                  <a:pt x="34552" y="0"/>
                </a:lnTo>
                <a:lnTo>
                  <a:pt x="33152" y="1400"/>
                </a:lnTo>
                <a:lnTo>
                  <a:pt x="1400" y="1400"/>
                </a:lnTo>
                <a:close/>
              </a:path>
              <a:path fill="darken" w="34552" h="21600">
                <a:moveTo>
                  <a:pt x="34552" y="0"/>
                </a:moveTo>
                <a:lnTo>
                  <a:pt x="34552" y="21600"/>
                </a:lnTo>
                <a:lnTo>
                  <a:pt x="33152" y="20200"/>
                </a:lnTo>
                <a:lnTo>
                  <a:pt x="33152" y="1400"/>
                </a:lnTo>
                <a:close/>
              </a:path>
              <a:path fill="darkenLess" w="34552" h="21600">
                <a:moveTo>
                  <a:pt x="34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2" y="20200"/>
                </a:lnTo>
                <a:close/>
              </a:path>
              <a:path fill="lighten" w="34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2" h="21600">
                <a:moveTo>
                  <a:pt x="10269" y="3794"/>
                </a:moveTo>
                <a:lnTo>
                  <a:pt x="24282" y="10800"/>
                </a:lnTo>
                <a:lnTo>
                  <a:pt x="10269" y="17806"/>
                </a:lnTo>
                <a:close/>
              </a:path>
            </a:pathLst>
          </a:custGeom>
          <a:solidFill>
            <a:srgbClr val="0099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6"/>
          <p:cNvSpPr/>
          <p:nvPr/>
        </p:nvSpPr>
        <p:spPr>
          <a:xfrm>
            <a:off x="6613560" y="1335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1" descr="graduation boy"/>
          <p:cNvPicPr/>
          <p:nvPr/>
        </p:nvPicPr>
        <p:blipFill>
          <a:blip r:embed="rId2"/>
          <a:stretch/>
        </p:blipFill>
        <p:spPr>
          <a:xfrm>
            <a:off x="7162920" y="228600"/>
            <a:ext cx="1704960" cy="17049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3" descr="bkmchinese001-FFCC00"/>
          <p:cNvPicPr/>
          <p:nvPr/>
        </p:nvPicPr>
        <p:blipFill>
          <a:blip r:embed="rId3"/>
          <a:stretch/>
        </p:blipFill>
        <p:spPr>
          <a:xfrm>
            <a:off x="4952880" y="4648320"/>
            <a:ext cx="1447920" cy="144756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  <p:sndAc>
      <p:stSnd>
        <p:snd r:embed="rId4" name="SPKGLIS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Subway"/>
              </a:rPr>
              <a:t>¡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acia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4">
            <a:hlinkClick r:id="" action="ppaction://hlinkshowjump?jump=nextslide"/>
          </p:cNvPr>
          <p:cNvSpPr/>
          <p:nvPr/>
        </p:nvSpPr>
        <p:spPr>
          <a:xfrm>
            <a:off x="6781680" y="647712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76" h="21600">
                <a:moveTo>
                  <a:pt x="12431" y="3794"/>
                </a:moveTo>
                <a:lnTo>
                  <a:pt x="26444" y="10800"/>
                </a:lnTo>
                <a:lnTo>
                  <a:pt x="12431" y="17806"/>
                </a:lnTo>
                <a:close/>
              </a:path>
            </a:pathLst>
          </a:custGeom>
          <a:solidFill>
            <a:srgbClr val="0099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5" descr="ag00052_"/>
          <p:cNvPicPr/>
          <p:nvPr/>
        </p:nvPicPr>
        <p:blipFill>
          <a:blip r:embed="rId1"/>
          <a:stretch/>
        </p:blipFill>
        <p:spPr>
          <a:xfrm>
            <a:off x="2438280" y="1752480"/>
            <a:ext cx="5105520" cy="337212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  <p:sndAc>
      <p:stSnd>
        <p:snd r:embed="rId2" name="SPKGLIS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i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120" y="1828800"/>
            <a:ext cx="380700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. Zitzewitz Paul W., Ph.D. (2004). </a:t>
            </a:r>
            <a:r>
              <a:rPr b="0" i="1" lang="es-ES" sz="1200" spc="-1" strike="noStrike" u="sng">
                <a:solidFill>
                  <a:srgbClr val="000000"/>
                </a:solidFill>
                <a:uFillTx/>
                <a:latin typeface="Arial"/>
              </a:rPr>
              <a:t>F</a:t>
            </a:r>
            <a:r>
              <a:rPr b="0" i="1" lang="es-ES" sz="1200" spc="-1" strike="noStrike" u="sng">
                <a:solidFill>
                  <a:srgbClr val="000000"/>
                </a:solidFill>
                <a:uFillTx/>
                <a:latin typeface="Arial"/>
                <a:ea typeface="MS PGothic"/>
              </a:rPr>
              <a:t>ísica Principios y Problemas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  <a:ea typeface="MS PGothic"/>
              </a:rPr>
              <a:t>. McGraw-Hi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200" spc="-1" strike="noStrike">
                <a:solidFill>
                  <a:srgbClr val="000000"/>
                </a:solidFill>
                <a:latin typeface="Arial"/>
                <a:ea typeface="MS PGothic"/>
              </a:rPr>
              <a:t>         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  <a:ea typeface="MS PGothic"/>
              </a:rPr>
              <a:t>Interamericana.México.Pág.531-53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200" spc="-1" strike="noStrike">
                <a:solidFill>
                  <a:srgbClr val="000000"/>
                </a:solidFill>
                <a:latin typeface="Arial"/>
                <a:ea typeface="MS PGothic"/>
              </a:rPr>
              <a:t>.Gómez de Orengo Nancy.(1997). </a:t>
            </a:r>
            <a:r>
              <a:rPr b="0" i="1" lang="es-ES" sz="1200" spc="-1" strike="noStrike" u="sng">
                <a:solidFill>
                  <a:srgbClr val="000000"/>
                </a:solidFill>
                <a:uFillTx/>
                <a:latin typeface="Arial"/>
                <a:ea typeface="MS PGothic"/>
              </a:rPr>
              <a:t>Descubrimiento Ciencia Integrada 8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  <a:ea typeface="MS PGothic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200" spc="-1" strike="noStrike">
                <a:solidFill>
                  <a:srgbClr val="000000"/>
                </a:solidFill>
                <a:latin typeface="Arial"/>
                <a:ea typeface="MS PGothic"/>
              </a:rPr>
              <a:t>          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  <a:ea typeface="MS PGothic"/>
              </a:rPr>
              <a:t>Ediciones Santillana, Inc. Puerto Rico. Pág. 531-53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Murphy, James, Zitzeruitz, Paul, Max, Hallon, James. 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  <a:ea typeface="MS PGothic"/>
              </a:rPr>
              <a:t>(1898).Física: </a:t>
            </a:r>
            <a:r>
              <a:rPr b="0" i="1" lang="es-ES" sz="1200" spc="-1" strike="noStrike" u="sng">
                <a:solidFill>
                  <a:srgbClr val="000000"/>
                </a:solidFill>
                <a:uFillTx/>
                <a:latin typeface="Arial"/>
                <a:ea typeface="MS PGothic"/>
              </a:rPr>
              <a:t>Un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          </a:t>
            </a:r>
            <a:r>
              <a:rPr b="0" i="1" lang="en-US" sz="1200" spc="-1" strike="noStrike" u="sng">
                <a:solidFill>
                  <a:srgbClr val="000000"/>
                </a:solidFill>
                <a:uFillTx/>
                <a:latin typeface="Arial"/>
                <a:ea typeface="MS PGothic"/>
              </a:rPr>
              <a:t>ciencia para todos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. Ohio: Merill Publishing Co. Pág. 367-38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PR" sz="12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r>
              <a:rPr b="0" i="1" lang="es-PR" sz="1200" spc="-1" strike="noStrike">
                <a:solidFill>
                  <a:srgbClr val="000000"/>
                </a:solidFill>
                <a:latin typeface="Arial"/>
                <a:ea typeface="MS PGothic"/>
              </a:rPr>
              <a:t>Rathjen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 Don, Doherty, and the Exploration Teasher Institute. (2002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        </a:t>
            </a:r>
            <a:r>
              <a:rPr b="0" i="1" lang="en-US" sz="1200" spc="-1" strike="noStrike" u="sng">
                <a:solidFill>
                  <a:srgbClr val="000000"/>
                </a:solidFill>
                <a:uFillTx/>
                <a:latin typeface="Arial"/>
                <a:ea typeface="MS PGothic"/>
              </a:rPr>
              <a:t>Squeare Wheels And Other Easy-build Hends-On Since Activit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        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San Francisco, Co. explorations. Pág. 9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2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  <a:ea typeface="MS PGothic"/>
              </a:rPr>
              <a:t>Microsoft Corporation. (1993-2003). </a:t>
            </a:r>
            <a:r>
              <a:rPr b="0" i="1" lang="es-ES" sz="1200" spc="-1" strike="noStrike" u="sng">
                <a:solidFill>
                  <a:srgbClr val="000000"/>
                </a:solidFill>
                <a:uFillTx/>
                <a:latin typeface="Arial"/>
                <a:ea typeface="MS PGothic"/>
              </a:rPr>
              <a:t>Enciclopedia Encarta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  <a:ea typeface="MS PGothic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4">
            <a:hlinkClick r:id="" action="ppaction://hlinkshowjump?jump=nextslide"/>
          </p:cNvPr>
          <p:cNvSpPr/>
          <p:nvPr/>
        </p:nvSpPr>
        <p:spPr>
          <a:xfrm>
            <a:off x="6781680" y="647712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76" h="21600">
                <a:moveTo>
                  <a:pt x="12431" y="3794"/>
                </a:moveTo>
                <a:lnTo>
                  <a:pt x="26444" y="10800"/>
                </a:lnTo>
                <a:lnTo>
                  <a:pt x="12431" y="17806"/>
                </a:lnTo>
                <a:close/>
              </a:path>
            </a:pathLst>
          </a:custGeom>
          <a:solidFill>
            <a:srgbClr val="0099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8" descr="pullcart_library_book_open_md_wht"/>
          <p:cNvPicPr/>
          <p:nvPr/>
        </p:nvPicPr>
        <p:blipFill>
          <a:blip r:embed="rId1"/>
          <a:stretch/>
        </p:blipFill>
        <p:spPr>
          <a:xfrm>
            <a:off x="5830920" y="3486240"/>
            <a:ext cx="2519280" cy="226224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  <p:sndAc>
      <p:stSnd>
        <p:snd r:embed="rId2" name="SPKGLIS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lex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3" descr="tour_butterfly_hg"/>
          <p:cNvPicPr/>
          <p:nvPr/>
        </p:nvPicPr>
        <p:blipFill>
          <a:blip r:embed="rId1"/>
          <a:stretch/>
        </p:blipFill>
        <p:spPr>
          <a:xfrm>
            <a:off x="2824200" y="2293920"/>
            <a:ext cx="3495600" cy="3138480"/>
          </a:xfrm>
          <a:prstGeom prst="rect">
            <a:avLst/>
          </a:prstGeom>
          <a:ln w="0">
            <a:noFill/>
          </a:ln>
        </p:spPr>
      </p:pic>
      <p:sp>
        <p:nvSpPr>
          <p:cNvPr id="58" name="AutoShape 4">
            <a:hlinkClick r:id="" action="ppaction://hlinkshowjump?jump=nextslide"/>
          </p:cNvPr>
          <p:cNvSpPr/>
          <p:nvPr/>
        </p:nvSpPr>
        <p:spPr>
          <a:xfrm>
            <a:off x="6781680" y="647712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76" h="21600">
                <a:moveTo>
                  <a:pt x="12431" y="3794"/>
                </a:moveTo>
                <a:lnTo>
                  <a:pt x="26444" y="10800"/>
                </a:lnTo>
                <a:lnTo>
                  <a:pt x="12431" y="17806"/>
                </a:lnTo>
                <a:close/>
              </a:path>
            </a:pathLst>
          </a:custGeom>
          <a:solidFill>
            <a:srgbClr val="0099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  <p:sndAc>
      <p:stSnd>
        <p:snd r:embed="rId2" name="SPKGLIS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ánd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19320" y="1523520"/>
            <a:ext cx="76197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2800" spc="-1" strike="noStrike">
                <a:solidFill>
                  <a:srgbClr val="000000"/>
                </a:solidFill>
                <a:latin typeface="Arial"/>
              </a:rPr>
              <a:t>La Ciencia y la Tecnologí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4">
            <a:hlinkClick r:id="" action="ppaction://hlinkshowjump?jump=nextslide"/>
          </p:cNvPr>
          <p:cNvSpPr/>
          <p:nvPr/>
        </p:nvSpPr>
        <p:spPr>
          <a:xfrm>
            <a:off x="6781680" y="647712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76" h="21600">
                <a:moveTo>
                  <a:pt x="12431" y="3794"/>
                </a:moveTo>
                <a:lnTo>
                  <a:pt x="26444" y="10800"/>
                </a:lnTo>
                <a:lnTo>
                  <a:pt x="12431" y="17806"/>
                </a:lnTo>
                <a:close/>
              </a:path>
            </a:pathLst>
          </a:custGeom>
          <a:solidFill>
            <a:srgbClr val="0099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  <p:sndAc>
      <p:stSnd>
        <p:snd r:embed="rId1" name="SPKGLIS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3200" spc="-1" strike="noStrike">
                <a:solidFill>
                  <a:srgbClr val="000000"/>
                </a:solidFill>
                <a:latin typeface="Arial"/>
              </a:rPr>
              <a:t>Biotecnología Marina y Administración de Empres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4">
            <a:hlinkClick r:id="" action="ppaction://hlinkshowjump?jump=nextslide"/>
          </p:cNvPr>
          <p:cNvSpPr/>
          <p:nvPr/>
        </p:nvSpPr>
        <p:spPr>
          <a:xfrm>
            <a:off x="6781680" y="647712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76" h="21600">
                <a:moveTo>
                  <a:pt x="12431" y="3794"/>
                </a:moveTo>
                <a:lnTo>
                  <a:pt x="26444" y="10800"/>
                </a:lnTo>
                <a:lnTo>
                  <a:pt x="12431" y="17806"/>
                </a:lnTo>
                <a:close/>
              </a:path>
            </a:pathLst>
          </a:custGeom>
          <a:solidFill>
            <a:srgbClr val="0099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  <p:sndAc>
      <p:stSnd>
        <p:snd r:embed="rId1" name="SPKGLIS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ítulo de la Activid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42670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3200" spc="-1" strike="noStrike">
                <a:solidFill>
                  <a:srgbClr val="000000"/>
                </a:solidFill>
                <a:latin typeface="Arial"/>
              </a:rPr>
              <a:t>Producción de Peces Comerciales a partir de la identificación de sus larvas mediante Biotecnologí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4">
            <a:hlinkClick r:id="" action="ppaction://hlinkshowjump?jump=nextslide"/>
          </p:cNvPr>
          <p:cNvSpPr/>
          <p:nvPr/>
        </p:nvSpPr>
        <p:spPr>
          <a:xfrm>
            <a:off x="6781680" y="647712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76" h="21600">
                <a:moveTo>
                  <a:pt x="12431" y="3794"/>
                </a:moveTo>
                <a:lnTo>
                  <a:pt x="26444" y="10800"/>
                </a:lnTo>
                <a:lnTo>
                  <a:pt x="12431" y="17806"/>
                </a:lnTo>
                <a:close/>
              </a:path>
            </a:pathLst>
          </a:custGeom>
          <a:solidFill>
            <a:srgbClr val="0099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5" descr="10176891"/>
          <p:cNvPicPr/>
          <p:nvPr/>
        </p:nvPicPr>
        <p:blipFill>
          <a:blip r:embed="rId1"/>
          <a:stretch/>
        </p:blipFill>
        <p:spPr>
          <a:xfrm>
            <a:off x="6324480" y="1752480"/>
            <a:ext cx="2316240" cy="351792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  <p:sndAc>
      <p:stSnd>
        <p:snd r:embed="rId2" name="SPKGLIS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tivos de la lec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29792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 terminar la lección el estudiant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dentificarán especies de peces en etapa haciendo uso 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encias de una porción de adn mitocondrial de larvas y adult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aran las secuencias para determiar cual larva corresponde al pez adul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inirán en forma operacional los conceptos dna mitocondrial, pcr, secuenci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pararán un vivero ideal para la producción en masa de pec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pararán un plan o modelo comercial de la venta y producción de peces a gran escal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ejaran presupuesto y realizarán toma de deciciones al formar una nueva empres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pararán organizadores gráfic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eñaran anuncios comercial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6">
            <a:hlinkClick r:id="" action="ppaction://hlinkshowjump?jump=nextslide"/>
          </p:cNvPr>
          <p:cNvSpPr/>
          <p:nvPr/>
        </p:nvSpPr>
        <p:spPr>
          <a:xfrm>
            <a:off x="6781680" y="647712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76" h="21600">
                <a:moveTo>
                  <a:pt x="12431" y="3794"/>
                </a:moveTo>
                <a:lnTo>
                  <a:pt x="26444" y="10800"/>
                </a:lnTo>
                <a:lnTo>
                  <a:pt x="12431" y="17806"/>
                </a:lnTo>
                <a:close/>
              </a:path>
            </a:pathLst>
          </a:custGeom>
          <a:solidFill>
            <a:srgbClr val="0099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7" descr="trafficcop_goleft_hw"/>
          <p:cNvPicPr/>
          <p:nvPr/>
        </p:nvPicPr>
        <p:blipFill>
          <a:blip r:embed="rId1"/>
          <a:stretch/>
        </p:blipFill>
        <p:spPr>
          <a:xfrm>
            <a:off x="457200" y="5791320"/>
            <a:ext cx="838080" cy="83808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  <p:sndAc>
      <p:stSnd>
        <p:snd r:embed="rId2" name="SPKGLIS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cesos y Destrez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6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3200" spc="-1" strike="noStrike">
                <a:solidFill>
                  <a:srgbClr val="000000"/>
                </a:solidFill>
                <a:latin typeface="Arial"/>
              </a:rPr>
              <a:t>Los procesos y destrezas s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6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2800" spc="-1" strike="noStrike">
                <a:solidFill>
                  <a:srgbClr val="ff0000"/>
                </a:solidFill>
                <a:latin typeface="Arial"/>
              </a:rPr>
              <a:t>Observ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6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2800" spc="-1" strike="noStrike">
                <a:solidFill>
                  <a:srgbClr val="ff0000"/>
                </a:solidFill>
                <a:latin typeface="Arial"/>
              </a:rPr>
              <a:t>Formulación de definiciones operaciona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6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2800" spc="-1" strike="noStrike">
                <a:solidFill>
                  <a:srgbClr val="ff0000"/>
                </a:solidFill>
                <a:latin typeface="Arial"/>
              </a:rPr>
              <a:t>Clasific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6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2800" spc="-1" strike="noStrike">
                <a:solidFill>
                  <a:srgbClr val="ff0000"/>
                </a:solidFill>
                <a:latin typeface="Arial"/>
              </a:rPr>
              <a:t>Medi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6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2800" spc="-1" strike="noStrike">
                <a:solidFill>
                  <a:srgbClr val="ff0000"/>
                </a:solidFill>
                <a:latin typeface="Arial"/>
              </a:rPr>
              <a:t>Uso de relaciones de espacio y tiemp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6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2800" spc="-1" strike="noStrike">
                <a:solidFill>
                  <a:srgbClr val="ff0000"/>
                </a:solidFill>
                <a:latin typeface="Arial"/>
              </a:rPr>
              <a:t>Formulación de model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6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2800" spc="-1" strike="noStrike">
                <a:solidFill>
                  <a:srgbClr val="ff0000"/>
                </a:solidFill>
                <a:latin typeface="Arial"/>
              </a:rPr>
              <a:t>Predicció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6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2800" spc="-1" strike="noStrike">
                <a:solidFill>
                  <a:srgbClr val="ff0000"/>
                </a:solidFill>
                <a:latin typeface="Arial"/>
              </a:rPr>
              <a:t>Interpretación de da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4">
            <a:hlinkClick r:id="" action="ppaction://hlinkshowjump?jump=nextslide"/>
          </p:cNvPr>
          <p:cNvSpPr/>
          <p:nvPr/>
        </p:nvSpPr>
        <p:spPr>
          <a:xfrm>
            <a:off x="6781680" y="647712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76" h="21600">
                <a:moveTo>
                  <a:pt x="12431" y="3794"/>
                </a:moveTo>
                <a:lnTo>
                  <a:pt x="26444" y="10800"/>
                </a:lnTo>
                <a:lnTo>
                  <a:pt x="12431" y="17806"/>
                </a:lnTo>
                <a:close/>
              </a:path>
            </a:pathLst>
          </a:custGeom>
          <a:solidFill>
            <a:srgbClr val="0099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  <p:sndAc>
      <p:stSnd>
        <p:snd r:embed="rId1" name="SPKGLIS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rategi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6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o de diversas fuentes de inform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ulacion de pregunt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o del método científ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gistro de da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bajo en grup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cusión socializa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4">
            <a:hlinkClick r:id="" action="ppaction://hlinkshowjump?jump=nextslide"/>
          </p:cNvPr>
          <p:cNvSpPr/>
          <p:nvPr/>
        </p:nvSpPr>
        <p:spPr>
          <a:xfrm>
            <a:off x="6781680" y="647712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76" h="21600">
                <a:moveTo>
                  <a:pt x="12431" y="3794"/>
                </a:moveTo>
                <a:lnTo>
                  <a:pt x="26444" y="10800"/>
                </a:lnTo>
                <a:lnTo>
                  <a:pt x="12431" y="17806"/>
                </a:lnTo>
                <a:close/>
              </a:path>
            </a:pathLst>
          </a:custGeom>
          <a:solidFill>
            <a:srgbClr val="0099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  <p:sndAc>
      <p:stSnd>
        <p:snd r:embed="rId1" name="SPKGLIS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écnicas de enseñanz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777240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3200" spc="-1" strike="noStrike">
                <a:solidFill>
                  <a:srgbClr val="000000"/>
                </a:solidFill>
                <a:latin typeface="Arial"/>
              </a:rPr>
              <a:t>Diseño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3200" spc="-1" strike="noStrike">
                <a:solidFill>
                  <a:srgbClr val="000000"/>
                </a:solidFill>
                <a:latin typeface="Arial"/>
              </a:rPr>
              <a:t>jueg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4">
            <a:hlinkClick r:id="" action="ppaction://hlinkshowjump?jump=nextslide"/>
          </p:cNvPr>
          <p:cNvSpPr/>
          <p:nvPr/>
        </p:nvSpPr>
        <p:spPr>
          <a:xfrm>
            <a:off x="6781680" y="647712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76" h="21600">
                <a:moveTo>
                  <a:pt x="12431" y="3794"/>
                </a:moveTo>
                <a:lnTo>
                  <a:pt x="26444" y="10800"/>
                </a:lnTo>
                <a:lnTo>
                  <a:pt x="12431" y="17806"/>
                </a:lnTo>
                <a:close/>
              </a:path>
            </a:pathLst>
          </a:custGeom>
          <a:solidFill>
            <a:srgbClr val="0099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  <p:sndAc>
      <p:stSnd>
        <p:snd r:embed="rId1" name="SPKGLIS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7T12:40:53Z</dcterms:created>
  <dc:creator>Yolanda Ramos, Elba Sepulveda y Rosa Olivencia</dc:creator>
  <dc:description/>
  <dc:language>en-US</dc:language>
  <cp:lastModifiedBy>RomaK</cp:lastModifiedBy>
  <dcterms:modified xsi:type="dcterms:W3CDTF">2015-09-04T10:41:28Z</dcterms:modified>
  <cp:revision>64</cp:revision>
  <dc:subject>Actividad de Logros</dc:subject>
  <dc:title>PlanesAlACiM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ate completed">
    <vt:lpwstr>15 febrero de 2005</vt:lpwstr>
  </property>
  <property fmtid="{D5CDD505-2E9C-101B-9397-08002B2CF9AE}" pid="3" name="Project">
    <vt:lpwstr>Plantilla de planes AlACiMa</vt:lpwstr>
  </property>
</Properties>
</file>